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807-6466-460A-AC80-8494D90B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681-FDF2-4B9B-858C-1DFA706A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818-63D8-4EC0-A7C7-658C687A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7A1-2759-413A-B16D-F892A0FD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B2A-B867-4192-AB23-28CA0760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1A7-B1A1-4021-B509-3B3F1EA2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6B2-94C5-48B1-A8E6-099746C7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B3F-8DB9-444F-95E1-AC4A917C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E82-8AFE-4C75-927C-848C0E6D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A20-5819-4E43-A0D7-F22A80B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DE9-ABA7-4BFE-8548-74C0121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339-6967-4E06-914E-8AA50EAF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F2B-D836-44E8-9E2E-B8A81339100A}" type="slidenum"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01120" cy="2232000"/>
          </a:xfrm>
          <a:prstGeom prst="rect">
            <a:avLst/>
          </a:prstGeom>
          <a:solidFill>
            <a:srgbClr val="cc6600">
              <a:alpha val="70000"/>
            </a:srgbClr>
          </a:solidFill>
          <a:ln w="126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: «Деньги, их функции»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333360"/>
            <a:ext cx="828036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Изобретение денег - одно из величайших достижений человечеств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Они – великий созидатель. Там, куда они текут, вырастают улицы, заводы, пустыни превращаются в оазисы, болота – в плодородные нивы… Они – жесточайший тиран. Чем больше человек хочет иметь свободы, тем усерднее вынужден служить и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002440" cy="38894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определить роль денег в обществе через их функции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256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no Pro"/>
              </a:rPr>
              <a:t>ДЕНЬГИ – </a:t>
            </a:r>
            <a:r>
              <a:rPr b="0" lang="en-US" sz="3000" spc="-1" strike="noStrike">
                <a:solidFill>
                  <a:srgbClr val="000000"/>
                </a:solidFill>
                <a:latin typeface="Arno Pro"/>
              </a:rPr>
              <a:t>специфический товар, который имеет свойство обмениваться на любые другие товары, т.е. является всеобщим эквивалентом.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2"/>
          <a:stretch/>
        </p:blipFill>
        <p:spPr>
          <a:xfrm>
            <a:off x="900000" y="1969920"/>
            <a:ext cx="72741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no Pro"/>
              </a:rPr>
              <a:t>3.  ФУНКЦИИ ДЕНЕГ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Схема 3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62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нег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458136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989000"/>
            <a:ext cx="237492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ов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520720" cy="10065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989000"/>
            <a:ext cx="237636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реди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00280"/>
            <a:ext cx="237492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Зол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 се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 сли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любо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500280"/>
            <a:ext cx="2374920" cy="201636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Че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ред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ар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0280"/>
            <a:ext cx="230364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ед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икел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оне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ум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Постройте логическую цепочку из разрозненных элементов, соблюдая порядок появления денег: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реход от натурального хозяйства к товарному; 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деление труда и возникновение специализаци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ности соизмерения различных товаров при обмене излишкам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деление особого товара, служащим всеобщим эквивалентом при обмене.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1:05:42Z</dcterms:created>
  <dc:creator>АннА</dc:creator>
  <dc:description/>
  <dc:language>en-US</dc:language>
  <cp:lastModifiedBy>user</cp:lastModifiedBy>
  <dcterms:modified xsi:type="dcterms:W3CDTF">2013-03-20T16:28:22Z</dcterms:modified>
  <cp:revision>21</cp:revision>
  <dc:subject/>
  <dc:title>ТЕМА 1 Сущность и функции денег</dc:title>
</cp:coreProperties>
</file>